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B06-E4A5-4B1A-9962-22315E7A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3AA-5C6E-4945-A418-7D94F27E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4F8-70AD-478E-9960-FE523BE9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D86-8040-49B3-A8CD-279D91E4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4D9-A63A-4D6F-B500-AB79A39E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E69-B20F-4884-BC26-AC88E4C8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AB7-B2F6-49AF-8FD0-ECF6EE2C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FB0-30E4-4E37-84B7-4E31C9AD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184-CE45-452C-BED0-B29EF6BE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3F6-3D5F-44B4-95CD-91B49D5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E1E-6586-443A-83E1-ABC90250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FF0-1E4B-4341-BA87-6B81FC43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5699-A474-4CB5-AB56-F26278330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 Clase 8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2 de mayo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7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continuamos el repaso para el examen del Captiulo 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L.O: to continue reviewing for the Unit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rcRect l="17274" t="23728" r="17953" b="28546"/>
          <a:stretch/>
        </p:blipFill>
        <p:spPr>
          <a:xfrm>
            <a:off x="457200" y="3220920"/>
            <a:ext cx="789768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8296" t="-359" r="17956" b="15546"/>
          <a:stretch/>
        </p:blipFill>
        <p:spPr>
          <a:xfrm>
            <a:off x="76320" y="228600"/>
            <a:ext cx="8991360" cy="646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552800" y="3048120"/>
            <a:ext cx="102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5662080" y="4948200"/>
            <a:ext cx="173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 Antho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339480" y="1442880"/>
            <a:ext cx="805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y completa con la palabra de vocabulario approp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12500" t="5003" r="12500" b="23728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207000" y="1442880"/>
            <a:ext cx="760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a con la forma correcta del verbo en el preté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REPASO GRAMATICAL DEL CAPITUL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4:30:58Z</dcterms:created>
  <dc:creator>Helen Zumaeta</dc:creator>
  <dc:description/>
  <dc:language>en-US</dc:language>
  <cp:lastModifiedBy>Helen Zumaeta</cp:lastModifiedBy>
  <dcterms:modified xsi:type="dcterms:W3CDTF">2016-05-12T18:40:49Z</dcterms:modified>
  <cp:revision>14</cp:revision>
  <dc:subject/>
  <dc:title>Me llamo _______ Clase 8 im La fecha es el 18 de enero del 2013</dc:title>
</cp:coreProperties>
</file>